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8B9-8E66-46DF-B0CC-6367E6AB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C2A-C595-4710-B450-76313146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E20-3C0A-4F57-A0B4-F55B55FF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857-3223-47ED-9687-AE3AFB05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477-80A9-463A-BF89-5430D303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34A-41B1-41AF-9D55-FA852FDB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822-CB44-4F40-926E-00C1E65F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249-5DE0-4B75-A5FF-737E7C88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F66-DDA4-4DC7-9F3E-4A19000E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0DD-40D2-415D-818E-B769FDE6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63F-B0D8-4155-AA50-9DC4C251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B92-A0A4-4A7A-BB8A-F80C04D1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1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55A5-1F79-483F-86F1-E4C273F4A8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7257960" y="0"/>
            <a:ext cx="1886040" cy="1851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9976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осударственная итоговая аттестация </a:t>
            </a:r>
            <a:br>
              <a:rPr sz="4800"/>
            </a:br>
            <a:r>
              <a:rPr b="0" lang="ru-RU" sz="4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202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500360"/>
            <a:ext cx="64008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388360" y="76320"/>
            <a:ext cx="671400" cy="66024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5" descr=""/>
          <p:cNvPicPr/>
          <p:nvPr/>
        </p:nvPicPr>
        <p:blipFill>
          <a:blip r:embed="rId2"/>
          <a:stretch/>
        </p:blipFill>
        <p:spPr>
          <a:xfrm>
            <a:off x="938160" y="171360"/>
            <a:ext cx="6877080" cy="5238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9"/>
          <p:cNvSpPr/>
          <p:nvPr/>
        </p:nvSpPr>
        <p:spPr>
          <a:xfrm>
            <a:off x="285840" y="2000160"/>
            <a:ext cx="864396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бумажная выверка          регистрационных данных обучающихся 9-х и 11-х клас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4460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4460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4460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4460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я и номер документа, удостоверяющег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 (паспорт Р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388360" y="76320"/>
            <a:ext cx="671400" cy="66024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5" descr=""/>
          <p:cNvPicPr/>
          <p:nvPr/>
        </p:nvPicPr>
        <p:blipFill>
          <a:blip r:embed="rId2"/>
          <a:stretch/>
        </p:blipFill>
        <p:spPr>
          <a:xfrm>
            <a:off x="201600" y="171360"/>
            <a:ext cx="7869240" cy="7556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198360" y="5500800"/>
            <a:ext cx="876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ерки проверены и подписаны самими обучающими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8"/>
          <p:cNvSpPr/>
          <p:nvPr/>
        </p:nvSpPr>
        <p:spPr>
          <a:xfrm>
            <a:off x="395280" y="5429160"/>
            <a:ext cx="8327880" cy="1239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343080" y="785880"/>
            <a:ext cx="83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ая информация: «Документы, удостоверяющие лич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214200" y="1214280"/>
            <a:ext cx="85726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граждан Р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аспорт гражданина РФ; загранпаспорт гражданина РФ; временное удостоверение личности гражданина РФ, выдаваемое на период оформления па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214200" y="25718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ностранных гражда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гражданина иностранного государства, разрешение на временное проживание, вид на жите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3"/>
          <p:cNvSpPr/>
          <p:nvPr/>
        </p:nvSpPr>
        <p:spPr>
          <a:xfrm>
            <a:off x="214200" y="3643200"/>
            <a:ext cx="821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иц без гражданств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выданный иностранным государством и признаваемый в соответствии с международным договором РФ в качестве документа, удостоверяющего личность лица без гражданства; вид на житель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8" descr=""/>
          <p:cNvPicPr/>
          <p:nvPr/>
        </p:nvPicPr>
        <p:blipFill>
          <a:blip r:embed="rId1"/>
          <a:stretch/>
        </p:blipFill>
        <p:spPr>
          <a:xfrm>
            <a:off x="2554200" y="1176480"/>
            <a:ext cx="3316320" cy="5857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0"/>
          <p:cNvSpPr/>
          <p:nvPr/>
        </p:nvSpPr>
        <p:spPr>
          <a:xfrm>
            <a:off x="1619280" y="1143000"/>
            <a:ext cx="5905440" cy="1233360"/>
          </a:xfrm>
          <a:prstGeom prst="rect">
            <a:avLst/>
          </a:prstGeom>
          <a:noFill/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C:\Users\olgavl\Downloads\gia.jpg"/>
          <p:cNvPicPr/>
          <p:nvPr/>
        </p:nvPicPr>
        <p:blipFill>
          <a:blip r:embed="rId2"/>
          <a:stretch/>
        </p:blipFill>
        <p:spPr>
          <a:xfrm>
            <a:off x="8264520" y="76320"/>
            <a:ext cx="795240" cy="780840"/>
          </a:xfrm>
          <a:prstGeom prst="rect">
            <a:avLst/>
          </a:prstGeom>
          <a:ln w="0">
            <a:noFill/>
          </a:ln>
        </p:spPr>
      </p:pic>
      <p:sp>
        <p:nvSpPr>
          <p:cNvPr id="83" name="TextBox 11"/>
          <p:cNvSpPr/>
          <p:nvPr/>
        </p:nvSpPr>
        <p:spPr>
          <a:xfrm>
            <a:off x="2340000" y="1908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й школе до 1 февраля 202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173160" y="4278240"/>
            <a:ext cx="8791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регистрац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ие изменений в перечень экзаменов возможно тольк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 уважительных прич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болезни или иных обстоятельств, подтвержденных документально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тельное решение принимается государственной экзаменационной комиссией (ГЭ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ое заявление подается не позднее чем за две недели до начала соответствующих экзаменов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6"/>
          <p:cNvSpPr/>
          <p:nvPr/>
        </p:nvSpPr>
        <p:spPr>
          <a:xfrm>
            <a:off x="539640" y="284472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из АИС «Параграф»  и памятка участника ГИА обязательно подписываются законным представителем несовершеннолетнего обучающего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1000080" y="21420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гистрация на экзам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5440" y="2397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авила и процедура проведения ГИ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765000"/>
            <a:ext cx="8507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начала экзамена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ходе в ППЭ  предъявить документ, удостоверяющий личность -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ПЭ участник ГИА берет с соб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;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ка (черная, гелевая или капиллярная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а и питание (при необходимости; оставляет в коридоре);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обучения и воспитания (по математике линейка; по физике – линейка и непрограммируемый калькулятор; по химии – непрограммируемый калькулятор; по географии – линейка, транспортир, непрограммируемый калькулятор);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ГИА с ОВЗ, дети – инвалиды и инвалиды - специальные технические средства ( указанные в справке врач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264520" y="76320"/>
            <a:ext cx="7952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авила и процедура проведения ГИ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836640"/>
            <a:ext cx="9036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ремя экзамена участникам ГИА запрещаетс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1. Иметь при себ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f26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средства связ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f26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электронно-вычислительную техни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f26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фото-, аудио- и видеоаппаратур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f26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справочные материалы (кроме разрешенных, которые содержатся в КИМ), письменные заметки и иные средства хранения и передачи информ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2. Выносить из аудиторий и ППЭ экзаменационные материалы) на бумажном и (или) электронном носител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3. Выносить из аудиторий письменные принадлежности, письменные заметки и иные средства хранения и передачи информ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4. Фотографировать Э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5. Разговаривать между соб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6. Обмениваться любыми материалами и предметами с другими участник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7. Произвольно выходить из аудитории и перемещаться по ППЭ без сопровождения организатора вне аудито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264520" y="76320"/>
            <a:ext cx="7952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Правила и процедура проведения ГИ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Во всех случаях участники ГИА, нарушившие порядок, удаляются с экзаменов </a:t>
            </a:r>
            <a:r>
              <a:rPr b="1" lang="ru-RU" sz="4400" spc="-1" strike="noStrike">
                <a:solidFill>
                  <a:srgbClr val="1f262d"/>
                </a:solidFill>
                <a:latin typeface="Times New Roman"/>
                <a:ea typeface="Times New Roman"/>
              </a:rPr>
              <a:t>без права пересдачи в текущем году</a:t>
            </a:r>
            <a:r>
              <a:rPr b="0" lang="ru-RU" sz="4400" spc="-1" strike="noStrike">
                <a:solidFill>
                  <a:srgbClr val="1f262d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264520" y="76320"/>
            <a:ext cx="7952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8" descr=""/>
          <p:cNvPicPr/>
          <p:nvPr/>
        </p:nvPicPr>
        <p:blipFill>
          <a:blip r:embed="rId1"/>
          <a:stretch/>
        </p:blipFill>
        <p:spPr>
          <a:xfrm>
            <a:off x="1620720" y="907920"/>
            <a:ext cx="6078600" cy="5860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0"/>
          <p:cNvSpPr/>
          <p:nvPr/>
        </p:nvSpPr>
        <p:spPr>
          <a:xfrm>
            <a:off x="468360" y="906480"/>
            <a:ext cx="8405640" cy="5567400"/>
          </a:xfrm>
          <a:prstGeom prst="rect">
            <a:avLst/>
          </a:prstGeom>
          <a:noFill/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Users\olgavl\Downloads\gia.jpg"/>
          <p:cNvPicPr/>
          <p:nvPr/>
        </p:nvPicPr>
        <p:blipFill>
          <a:blip r:embed="rId2"/>
          <a:stretch/>
        </p:blipFill>
        <p:spPr>
          <a:xfrm>
            <a:off x="8215200" y="76320"/>
            <a:ext cx="844560" cy="8301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3" descr=""/>
          <p:cNvPicPr/>
          <p:nvPr/>
        </p:nvPicPr>
        <p:blipFill>
          <a:blip r:embed="rId3"/>
          <a:stretch/>
        </p:blipFill>
        <p:spPr>
          <a:xfrm>
            <a:off x="3395520" y="42840"/>
            <a:ext cx="2352960" cy="6462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1"/>
          <p:cNvSpPr/>
          <p:nvPr/>
        </p:nvSpPr>
        <p:spPr>
          <a:xfrm>
            <a:off x="611280" y="1517760"/>
            <a:ext cx="792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допускаются к сдаче экзамен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кущем году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ответствующему учебному предмету в дополнительные сроки обучающиеся, получившие на ГИ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овлетворительный результат по одному из обязательных учебных предм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мся, не прошедшим ГИА или получившим на ГИ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овлетворительные результаты более чем по одному обязательному учебному предмет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получивши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неудовлетворительный результат по одному из этих предме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ГИА в дополнительные сроки, предоставляется право пройти ГИА по соответствующим учебным предмета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нее 1 сентя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ускается изменения уровня экзамена по математ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 , «профиль»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388360" y="76320"/>
            <a:ext cx="671400" cy="66024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42840"/>
            <a:ext cx="8139240" cy="12002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1141560" y="1000080"/>
            <a:ext cx="782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йте Федерального института педагогических измерений (ФИПИ) размещена информация о содержании контрольно-измерительных материалов (КИМ), а также демонстрационные варианты матери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Картинки по запросу фипи"/>
          <p:cNvPicPr/>
          <p:nvPr/>
        </p:nvPicPr>
        <p:blipFill>
          <a:blip r:embed="rId3"/>
          <a:stretch/>
        </p:blipFill>
        <p:spPr>
          <a:xfrm>
            <a:off x="179280" y="1187280"/>
            <a:ext cx="96228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95280" y="94464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информация по проведению ГИА 2020 размещена на сайте шко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h201.frunz.gov.spb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 школьной горячей лини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+7 (812) 417-23-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7470720" y="142920"/>
            <a:ext cx="16732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6840" y="1071720"/>
            <a:ext cx="85438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(ГИА) - форма оценки степени и уровня освоения обучающимися  основных образовательных программ соответствующим требованиям федерального государственного образовательного стандар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126280" y="0"/>
            <a:ext cx="1017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126280" y="0"/>
            <a:ext cx="1017720" cy="1000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ГИА) в 11 класс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в форм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120" y="160020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го государственного экзамена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ГЭ) и в форме государственного выпускного экзамена (ГВЭ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271000" y="142920"/>
            <a:ext cx="873000" cy="857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выпускной экзамен (ГВЭ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ГИА с использованием текстов, тем, заданий, билетов в виде письменных и устных экзаменов. Проводится для выпускников 11-х классов, обучающихся в специальных учебно-воспитательных учреждениях закрытого типа и учреждениях, исполняющих наказание в виде лишения свободы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учающихся с ОВЗ, детей-инвалидов и инвалид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для обучающихся с ограниченными возможностями здоровья, детей-инвалидов и инвалид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Центральной психолого-медико-педагогической комиссии Санкт-Петербурга (ЦПМПК) действует рабочая группа по выработке рекомендаций по проведению государственной итоговой аттестации (ГИА) для обучающихся с ограниченными возможностями здоровья (ОВЗ), обучающихся детей-инвалидов и инвалидов, освоивших образовательные программы основного общего образования (9 кл.) и среднего общего образования (11 кл.), с учетом их индивидуальных особен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бнее: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gmpmpk.ru/g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126280" y="0"/>
            <a:ext cx="1017720" cy="100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допускаются обучающиеся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меющие академической задолж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в полном объеме выполнившие учебный план или индивидуальный учебный план (имеющ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всем учебным предметам за каждый год обуче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иже удовлетворитель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 допуска к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360" y="1052640"/>
          <a:ext cx="8569440" cy="4937040"/>
        </p:xfrm>
        <a:graphic>
          <a:graphicData uri="http://schemas.openxmlformats.org/drawingml/2006/table">
            <a:tbl>
              <a:tblPr/>
              <a:tblGrid>
                <a:gridCol w="2737080"/>
                <a:gridCol w="5832360"/>
              </a:tblGrid>
              <a:tr h="496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клас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ачет»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итоговое сочине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ложение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декабря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олучивших "незачёт" или не явившихся по уважительным причина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усмотрены ещё 2 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февраля 2021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ая 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120160" y="76320"/>
            <a:ext cx="939600" cy="9237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0" descr=""/>
          <p:cNvPicPr/>
          <p:nvPr/>
        </p:nvPicPr>
        <p:blipFill>
          <a:blip r:embed="rId2"/>
          <a:stretch/>
        </p:blipFill>
        <p:spPr>
          <a:xfrm>
            <a:off x="2054160" y="969840"/>
            <a:ext cx="5662800" cy="584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14"/>
          <p:cNvSpPr/>
          <p:nvPr/>
        </p:nvSpPr>
        <p:spPr>
          <a:xfrm>
            <a:off x="1906560" y="1571760"/>
            <a:ext cx="64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язательных экзаме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азовый или профильный уров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2627280" y="328608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уровня математи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устной части экза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остранным язы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1"/>
          <p:cNvSpPr/>
          <p:nvPr/>
        </p:nvSpPr>
        <p:spPr>
          <a:xfrm>
            <a:off x="826920" y="981000"/>
            <a:ext cx="8083800" cy="4689720"/>
          </a:xfrm>
          <a:prstGeom prst="rect">
            <a:avLst/>
          </a:prstGeom>
          <a:noFill/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Картинки по запросу восклицательный знак png"/>
          <p:cNvPicPr/>
          <p:nvPr/>
        </p:nvPicPr>
        <p:blipFill>
          <a:blip r:embed="rId3"/>
          <a:stretch/>
        </p:blipFill>
        <p:spPr>
          <a:xfrm>
            <a:off x="1476360" y="3408480"/>
            <a:ext cx="819000" cy="1387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8"/>
          <p:cNvSpPr/>
          <p:nvPr/>
        </p:nvSpPr>
        <p:spPr>
          <a:xfrm>
            <a:off x="2428920" y="285840"/>
            <a:ext cx="436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кзам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зна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 и информационно-коммуникационные технологии (ИКТ)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языки (английский, немецкий, французский, испанский, китайский языки)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:\Users\olgavl\Downloads\gia.jpg"/>
          <p:cNvPicPr/>
          <p:nvPr/>
        </p:nvPicPr>
        <p:blipFill>
          <a:blip r:embed="rId1"/>
          <a:stretch/>
        </p:blipFill>
        <p:spPr>
          <a:xfrm>
            <a:off x="8143920" y="0"/>
            <a:ext cx="1000080" cy="982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1357200" y="35712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кзамены по выб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4T17:42:05Z</dcterms:created>
  <dc:creator>Вольдемар</dc:creator>
  <dc:description/>
  <dc:language>en-US</dc:language>
  <cp:lastModifiedBy>Ольга О. Шумская</cp:lastModifiedBy>
  <dcterms:modified xsi:type="dcterms:W3CDTF">2020-11-13T06:59:40Z</dcterms:modified>
  <cp:revision>64</cp:revision>
  <dc:subject/>
  <dc:title>Государственная Итоговая Аттестация  2017</dc:title>
</cp:coreProperties>
</file>