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8A5-83CD-43A4-9B18-1A00F11D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0A7-00C3-4E9A-823F-599ED958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8DD-BF56-49C3-9F94-1FDA5971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BF2-8BBC-4837-882B-0140EC1C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411-E644-431D-9AD9-4D80C8B8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1C1-9D60-42DD-BE0E-20787F59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230-3228-494D-B003-31902AD8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B39-34BB-4870-A22F-A83F5CAB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C4C-A8BC-44A3-A8A0-45FFCF9C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840-8580-4A38-9A87-0723E47C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13B-DD07-4D4D-9C1F-582B7716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CB56-6A06-4AEA-BAC1-E41F5346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1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E288-9B44-4682-800B-7AB1C042D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7257960" y="0"/>
            <a:ext cx="1886040" cy="1851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9976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осударственная итоговая аттестация </a:t>
            </a:r>
            <a:br>
              <a:rPr sz="4800"/>
            </a:br>
            <a:r>
              <a:rPr b="0" lang="en-US" sz="4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0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500360"/>
            <a:ext cx="64008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й язык  (английский)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143920" y="0"/>
            <a:ext cx="1000080" cy="9828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1357200" y="35712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кзамены по выб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388360" y="76320"/>
            <a:ext cx="671400" cy="66024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" descr=""/>
          <p:cNvPicPr/>
          <p:nvPr/>
        </p:nvPicPr>
        <p:blipFill>
          <a:blip r:embed="rId2"/>
          <a:stretch/>
        </p:blipFill>
        <p:spPr>
          <a:xfrm>
            <a:off x="938160" y="171360"/>
            <a:ext cx="6778800" cy="1816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9000" y="5877000"/>
            <a:ext cx="876600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9"/>
          <p:cNvSpPr/>
          <p:nvPr/>
        </p:nvSpPr>
        <p:spPr>
          <a:xfrm>
            <a:off x="285840" y="2000160"/>
            <a:ext cx="864396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бумажная выверка          регистрационных данных обучающихся 9-х и 11-х клас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4460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4460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4460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4460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я и номер документа, удостоверяющег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 (паспорт Р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388360" y="76320"/>
            <a:ext cx="671400" cy="6602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5" descr=""/>
          <p:cNvPicPr/>
          <p:nvPr/>
        </p:nvPicPr>
        <p:blipFill>
          <a:blip r:embed="rId2"/>
          <a:stretch/>
        </p:blipFill>
        <p:spPr>
          <a:xfrm>
            <a:off x="201600" y="171360"/>
            <a:ext cx="7869240" cy="5238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343080" y="785880"/>
            <a:ext cx="83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ая информация: «Документы, удостоверяющие лич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214200" y="1214280"/>
            <a:ext cx="85726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граждан Р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аспорт гражданина РФ; загранпаспорт гражданина РФ; временное удостоверение личности гражданина РФ, выдаваемое на период оформления па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214200" y="25718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ностранных гражда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гражданина иностранного государства, разрешение на временное проживание, вид на жи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214200" y="3643200"/>
            <a:ext cx="821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иц без гражданств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выданный иностранным государством и признаваемый в соответствии с международным договором РФ в качестве документа, удостоверяющего личность лица без гражданства; вид на житель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7" descr=""/>
          <p:cNvPicPr/>
          <p:nvPr/>
        </p:nvPicPr>
        <p:blipFill>
          <a:blip r:embed="rId1"/>
          <a:stretch/>
        </p:blipFill>
        <p:spPr>
          <a:xfrm>
            <a:off x="1511280" y="1189080"/>
            <a:ext cx="6157800" cy="5842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9"/>
          <p:cNvSpPr/>
          <p:nvPr/>
        </p:nvSpPr>
        <p:spPr>
          <a:xfrm>
            <a:off x="1509840" y="1163520"/>
            <a:ext cx="6230880" cy="1233720"/>
          </a:xfrm>
          <a:prstGeom prst="rect">
            <a:avLst/>
          </a:prstGeom>
          <a:noFill/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Users\olgavl\Downloads\gia.jpg"/>
          <p:cNvPicPr/>
          <p:nvPr/>
        </p:nvPicPr>
        <p:blipFill>
          <a:blip r:embed="rId2"/>
          <a:stretch/>
        </p:blipFill>
        <p:spPr>
          <a:xfrm>
            <a:off x="8264520" y="76320"/>
            <a:ext cx="795240" cy="780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2"/>
          <p:cNvSpPr/>
          <p:nvPr/>
        </p:nvSpPr>
        <p:spPr>
          <a:xfrm>
            <a:off x="1332000" y="187308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школе до 1 марта 202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173160" y="4278240"/>
            <a:ext cx="8791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регистра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изменений в перечень экзаменов возможно тольк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 уважительных прич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болезни или иных обстоятельств, подтвержденных документально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тельное решение принимается государственной экзаменационной комиссией (ГЭ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ое заявление подается не позднее чем за две недели до начала соответствующих экзамен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6"/>
          <p:cNvSpPr/>
          <p:nvPr/>
        </p:nvSpPr>
        <p:spPr>
          <a:xfrm>
            <a:off x="539640" y="284472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из АИС «Параграф»  и памятка участника ГИА обязательно подписываются законным представителем несовершеннолетнего обучающего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1000080" y="21420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гистрация на экзам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5440" y="239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авила и процедура проведения Г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765000"/>
            <a:ext cx="8507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начала экзамена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ходе в ППЭ  предъявить документ, удостоверяющий личность -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участник ГИА берет с соб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;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ка (черная, гелевая или капиллярная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а и питание (при необходимости; оставляет в коридоре);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обучения и воспитания (по математике линейка; по физике – линейка и непрограммируемый калькулятор; по химии – непрограммируемый калькулятор; по географии – линейка, транспортир, непрограммируемый калькулятор);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ГИА с ОВЗ, дети – инвалиды и инвалиды - специальные технические средства ( указанные в справке врач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264520" y="76320"/>
            <a:ext cx="7952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авила и процедура проведения Г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836640"/>
            <a:ext cx="9036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экзамена участникам ГИА запрещаетс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1. Иметь при себ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f26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средства связ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f26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электронно-вычислительную техни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f26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фото-, аудио- и видеоаппаратур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f26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справочные материалы (кроме разрешенных, которые содержатся в КИМ), письменные заметки и иные средства хранения 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2. Выносить из аудиторий и ППЭ экзаменационные материалы) на бумажном и (или) электронном носител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3. Выносить из аудиторий письменные принадлежности, письменные заметки и иные средства хранения 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4. Фотографировать Э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5. Разговаривать между соб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6. Обмениваться любыми материалами и предметами с другими участник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7. Произвольно выходить из аудитории и перемещаться по ППЭ без сопровождения организатора вне аудит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264520" y="76320"/>
            <a:ext cx="7952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авила и процедура проведения Г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Во всех случаях участники ГИА, нарушившие порядок, удаляются с экзаменов </a:t>
            </a:r>
            <a:r>
              <a:rPr b="1" lang="ru-RU" sz="44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без права пересдачи в текущем году</a:t>
            </a:r>
            <a:r>
              <a:rPr b="0" lang="ru-RU" sz="4400" spc="-1" strike="noStrike">
                <a:solidFill>
                  <a:srgbClr val="1f262d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264520" y="76320"/>
            <a:ext cx="7952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17" descr=""/>
          <p:cNvPicPr/>
          <p:nvPr/>
        </p:nvPicPr>
        <p:blipFill>
          <a:blip r:embed="rId1"/>
          <a:stretch/>
        </p:blipFill>
        <p:spPr>
          <a:xfrm>
            <a:off x="1511280" y="920880"/>
            <a:ext cx="6303960" cy="5839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9"/>
          <p:cNvSpPr/>
          <p:nvPr/>
        </p:nvSpPr>
        <p:spPr>
          <a:xfrm>
            <a:off x="250920" y="907920"/>
            <a:ext cx="8497800" cy="5567400"/>
          </a:xfrm>
          <a:prstGeom prst="rect">
            <a:avLst/>
          </a:prstGeom>
          <a:noFill/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Users\olgavl\Downloads\gia.jpg"/>
          <p:cNvPicPr/>
          <p:nvPr/>
        </p:nvPicPr>
        <p:blipFill>
          <a:blip r:embed="rId2"/>
          <a:stretch/>
        </p:blipFill>
        <p:spPr>
          <a:xfrm>
            <a:off x="8215200" y="76320"/>
            <a:ext cx="844560" cy="83016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3"/>
          <a:stretch/>
        </p:blipFill>
        <p:spPr>
          <a:xfrm>
            <a:off x="3395520" y="42840"/>
            <a:ext cx="2352960" cy="646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2"/>
          <p:cNvSpPr/>
          <p:nvPr/>
        </p:nvSpPr>
        <p:spPr>
          <a:xfrm>
            <a:off x="250920" y="1484280"/>
            <a:ext cx="796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к сдаче ГИА по соответствующим учебным предмета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шению ГЭК допускаются обучающиеся, получившие на ГИ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ительные результаты по двум учебным предме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ительные результаты более чем по двум учебным предме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получивши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неудовлетворительный результат по одному из эти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ГИА в дополнительные сроки, предоставляется право пройти ГИА по соответствующим учебным предмета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1 сентя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388360" y="76320"/>
            <a:ext cx="671400" cy="6602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42840"/>
            <a:ext cx="8139240" cy="12002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"/>
          <p:cNvSpPr/>
          <p:nvPr/>
        </p:nvSpPr>
        <p:spPr>
          <a:xfrm>
            <a:off x="1125360" y="1000080"/>
            <a:ext cx="76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Федерального института педагогических измерений (ФИПИ) размещена информация о содержании контрольно-измерительных материалов (КИМ), а также демонстрационные варианты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Картинки по запросу фипи"/>
          <p:cNvPicPr/>
          <p:nvPr/>
        </p:nvPicPr>
        <p:blipFill>
          <a:blip r:embed="rId3"/>
          <a:stretch/>
        </p:blipFill>
        <p:spPr>
          <a:xfrm>
            <a:off x="179280" y="1187280"/>
            <a:ext cx="96228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информация по проведению ГИА 2021 размещена на сайте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http://school201.spb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 школьной горячей лини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+7 (812) 417-23-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7470720" y="142920"/>
            <a:ext cx="1673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6840" y="1071720"/>
            <a:ext cx="85438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(ГИА) - форма оценки степени и уровня освоения обучающимися  основных образовательных программ соответствующим требованиям федерального государственного образовательного стандар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126280" y="0"/>
            <a:ext cx="1017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126280" y="0"/>
            <a:ext cx="1017720" cy="1000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( ГИА)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9 класса проводится в форм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16002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го государственного экзамен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ГЭ) и в форме государственного выпускного экзамена (ГВЭ)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271000" y="142920"/>
            <a:ext cx="873000" cy="857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выпускной экзамен (ГВЭ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ГИА с использованием текстов, тем, заданий, билетов в виде письменных и устных экзаменов. Проводится для выпускников 9-х 11-х классов, обучающихся в специальных учебно-воспитательных учреждениях закрытого типа и учреждениях, исполняющих наказание в виде лишения свободы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ихся с ОВЗ, детей-инвалидов и инвали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для обучающихся с ограниченными возможностями здоровья, детей-инвалидов и инвали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ентральной психолого-медико-педагогической комиссии Санкт-Петербурга (ЦПМПК) действует рабочая группа по выработке рекомендаций по проведению государственной итоговой аттестации (ГИА) для обучающихся с ограниченными возможностями здоровья (ОВЗ), обучающихся детей-инвалидов и инвалидов, освоивших образовательные программы основного общего образования (9 кл.) и среднего общего образования (11 кл.), с учетом их индивидуальных особен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ее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mpmpk.ru/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наличие справки об установлении инвалидности действительной на даты проведения экзаменов и/или заключение ЦПМП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-инвалиды и инвалиды обращаются в ЦПМПК только в том случае, если они нуждаются в проведении экзаменов на дому по медицинским показаниям  Если этого не требуется, обучающимся детям-инвалидам и инвалидам достаточно предъявить при подаче по месту учебы заявления с указанием выбранных учебных предметов и форм проведения ГИА оригинал или заверенную в установленном порядке копию справки, подтверждающей факт установления инвалидности, выданной федеральным государственным учреждение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ы, подтверждающие право на создания особых условий при прохождении ГИА должны быть поданы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РАН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324000" y="1890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А-202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обы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Картинки по запросу восклицательный знак png"/>
          <p:cNvPicPr/>
          <p:nvPr/>
        </p:nvPicPr>
        <p:blipFill>
          <a:blip r:embed="rId1"/>
          <a:stretch/>
        </p:blipFill>
        <p:spPr>
          <a:xfrm>
            <a:off x="8101080" y="4994280"/>
            <a:ext cx="81900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126280" y="0"/>
            <a:ext cx="1017720" cy="100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допускаются обучающиес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ющие академическо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в полном объеме выполнившие учебный план или индивидуальный учебный план (имеющ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всем учебным предметам за каждый год обуче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иже удовлетворитель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допуска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7360" y="1484280"/>
          <a:ext cx="8569440" cy="4897440"/>
        </p:xfrm>
        <a:graphic>
          <a:graphicData uri="http://schemas.openxmlformats.org/drawingml/2006/table">
            <a:tbl>
              <a:tblPr/>
              <a:tblGrid>
                <a:gridCol w="2737080"/>
                <a:gridCol w="5832360"/>
              </a:tblGrid>
              <a:tr h="489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чет»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итоговое собеседование   по русскому язык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 февраля 2021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олучивших "незачёт" или не явившихся по уважительным причин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смотрены ещё 2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арта 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мая 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120160" y="76320"/>
            <a:ext cx="939600" cy="9237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9" descr=""/>
          <p:cNvPicPr/>
          <p:nvPr/>
        </p:nvPicPr>
        <p:blipFill>
          <a:blip r:embed="rId2"/>
          <a:stretch/>
        </p:blipFill>
        <p:spPr>
          <a:xfrm>
            <a:off x="2425680" y="981000"/>
            <a:ext cx="2579760" cy="585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2"/>
          <p:cNvSpPr/>
          <p:nvPr/>
        </p:nvSpPr>
        <p:spPr>
          <a:xfrm>
            <a:off x="203040" y="1500120"/>
            <a:ext cx="77868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замена: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з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                            инвалиды, дети-инвал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                              участники ГИА с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 по выб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 по выб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3"/>
          <p:cNvSpPr/>
          <p:nvPr/>
        </p:nvSpPr>
        <p:spPr>
          <a:xfrm>
            <a:off x="717480" y="3645000"/>
            <a:ext cx="64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енные на ГИ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удут влиять на итоговую отмет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ставляемую в аттестат об основном общем образовании,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 также на получение аттеста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9"/>
          <p:cNvSpPr/>
          <p:nvPr/>
        </p:nvSpPr>
        <p:spPr>
          <a:xfrm>
            <a:off x="198360" y="981000"/>
            <a:ext cx="7829640" cy="5400720"/>
          </a:xfrm>
          <a:prstGeom prst="rect">
            <a:avLst/>
          </a:prstGeom>
          <a:noFill/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Картинки по запросу восклицательный знак png"/>
          <p:cNvPicPr/>
          <p:nvPr/>
        </p:nvPicPr>
        <p:blipFill>
          <a:blip r:embed="rId3"/>
          <a:stretch/>
        </p:blipFill>
        <p:spPr>
          <a:xfrm>
            <a:off x="7170840" y="4869000"/>
            <a:ext cx="819000" cy="1387440"/>
          </a:xfrm>
          <a:prstGeom prst="rect">
            <a:avLst/>
          </a:prstGeom>
          <a:ln w="0">
            <a:noFill/>
          </a:ln>
        </p:spPr>
      </p:pic>
      <p:sp>
        <p:nvSpPr>
          <p:cNvPr id="67" name="Правая фигурная скобка 20"/>
          <p:cNvSpPr/>
          <p:nvPr/>
        </p:nvSpPr>
        <p:spPr>
          <a:xfrm>
            <a:off x="2268360" y="1928880"/>
            <a:ext cx="574920" cy="641160"/>
          </a:xfrm>
          <a:custGeom>
            <a:avLst/>
            <a:gdLst>
              <a:gd name="textAreaLeft" fmla="*/ 0 w 574920"/>
              <a:gd name="textAreaRight" fmla="*/ 207720 w 574920"/>
              <a:gd name="textAreaTop" fmla="*/ 14760 h 641160"/>
              <a:gd name="textAreaBottom" fmla="*/ 62640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7"/>
                  <a:pt x="10800" y="1613"/>
                </a:cubicBezTo>
                <a:lnTo>
                  <a:pt x="10800" y="9187"/>
                </a:lnTo>
                <a:cubicBezTo>
                  <a:pt x="10800" y="9994"/>
                  <a:pt x="16200" y="10800"/>
                  <a:pt x="21600" y="10800"/>
                </a:cubicBezTo>
                <a:cubicBezTo>
                  <a:pt x="16200" y="10800"/>
                  <a:pt x="10800" y="11607"/>
                  <a:pt x="10800" y="12413"/>
                </a:cubicBezTo>
                <a:lnTo>
                  <a:pt x="10800" y="19987"/>
                </a:lnTo>
                <a:cubicBezTo>
                  <a:pt x="10800" y="20794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2700360" y="2000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1835280" y="285840"/>
            <a:ext cx="495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кзам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"/>
          <p:cNvSpPr/>
          <p:nvPr/>
        </p:nvSpPr>
        <p:spPr>
          <a:xfrm>
            <a:off x="4211640" y="1484280"/>
            <a:ext cx="0" cy="20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4T17:42:05Z</dcterms:created>
  <dc:creator>Вольдемар</dc:creator>
  <dc:description/>
  <dc:language>en-US</dc:language>
  <cp:lastModifiedBy>Ольга О. Шумская</cp:lastModifiedBy>
  <dcterms:modified xsi:type="dcterms:W3CDTF">2020-11-13T07:22:44Z</dcterms:modified>
  <cp:revision>77</cp:revision>
  <dc:subject/>
  <dc:title>Государственная Итоговая Аттестация  2017</dc:title>
</cp:coreProperties>
</file>